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CB7-4A0E-4E72-8DCF-9AF66DA3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4A8-8E51-439F-8BA4-D1DE880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321-9237-4AEE-AACB-976BDE1F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BDA-CCFA-4DE4-A71A-14468560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89D3D-723F-4D64-AB32-7F1C78DB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BA0C9-7AE2-4851-A22B-413CD66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359C4-1062-4D11-B79D-7D84CE12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1AE9B-BC92-4324-8DB0-394FE74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D8B3-0DF1-4261-96A5-96452C0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E0F30-69E4-4E66-AA63-C5C22B81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8543-9CD8-4E32-85AA-50B5920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A2D-1638-4CAB-8C4F-4402AFD2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1197-C714-4C92-825E-D3C73D2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C7B3-6B20-416E-B927-8A8A51D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1FD83-39E1-43A6-9EA5-3883C8C5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1C593-8661-445B-A906-FD57981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EA40-7252-40B9-8FFE-AECBB22B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607-948A-4119-B2FC-DAF27B7B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339-C942-44C9-8284-D2D45994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CE5-9E9F-4F00-9513-C130AC66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7F7-EA1C-4743-AF53-792FB15A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08C-58FC-4B56-A42B-7D10DFC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F17-84F8-4155-8329-AA0266A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876-CE14-4E95-B169-46570C6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B053-76BC-42E0-8BE6-67993B6CE3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8751-F361-42A4-851A-67568ADE47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5360" y="1044720"/>
            <a:ext cx="952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BEAST” of Loch 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95480" y="39625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209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832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5816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9624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624852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62320" y="2590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e in Sco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04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148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292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148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4576680" cy="2784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32400" y="2125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2057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7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61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7688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796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263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08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07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41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10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088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2859120"/>
            <a:ext cx="4343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9200" y="171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401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59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725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583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0040" y="171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44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2843280"/>
            <a:ext cx="403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1800" y="1447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988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4120" y="1447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52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34960" y="141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3264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2640" y="1413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4876920" cy="289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38080" y="1981080"/>
            <a:ext cx="53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yptos is the Greek word for hidden or secr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oologist is the Greek term for someone who studies anima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4920" y="5975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 Dinsd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6808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58920" y="21747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444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9360" y="2174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743200" y="2971800"/>
            <a:ext cx="3306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1:44Z</dcterms:modified>
  <cp:revision>16</cp:revision>
  <dc:subject/>
  <dc:title>No Slide Title</dc:title>
</cp:coreProperties>
</file>